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146067"/>
        <c:axId val="75729453"/>
      </c:barChart>
      <c:catAx>
        <c:axId val="871460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729453"/>
        <c:crosses val="autoZero"/>
        <c:auto val="1"/>
        <c:lblAlgn val="ctr"/>
        <c:lblOffset val="100"/>
        <c:noMultiLvlLbl val="0"/>
      </c:catAx>
      <c:valAx>
        <c:axId val="757294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1460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8FBB-24CD-47B0-86B4-7D017E93F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F3F8-A871-457D-A28E-2E402CD21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DB5F-B206-4263-A5A2-5C1AFBB30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D7BA-1DF9-4FEE-A2D2-9923BBC90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5308-D3F2-41C0-9285-F7DE85277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1379-0E61-4220-B664-99F5AD43B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033D-CFE9-4EDC-8D4D-9D5E85EC9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D159-B63A-4F93-8905-B49B70FD1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5906-79FD-4719-825B-6B5BFFF54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36DE-9B44-4809-92B4-66516E07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55B6-73FE-4CFB-B120-9D3D336D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0C87-AF59-46F7-B72A-5DAF730D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97C2EB-2BAB-4FC1-B087-FF0A5B89D69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