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806832"/>
        <c:axId val="40159628"/>
      </c:barChart>
      <c:catAx>
        <c:axId val="80806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59628"/>
        <c:crosses val="autoZero"/>
        <c:auto val="1"/>
        <c:lblAlgn val="ctr"/>
        <c:lblOffset val="100"/>
        <c:noMultiLvlLbl val="0"/>
      </c:catAx>
      <c:valAx>
        <c:axId val="401596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06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C40D-AB04-4561-B2BD-A9911430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668E-1001-4DFF-B362-0B345979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31EE-AD2D-4B4A-B564-0C7476DB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5935-181E-49D1-A7CD-D0E4DCB1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F0D-0832-4BF5-B45E-7C7BD423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E79-77B1-4CE7-9D08-8C798244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7FB9-B7A2-428E-80EB-BAA64C4E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5565-5351-403E-B465-795B4718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4D43-91DE-4B29-8C08-945E99C2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6BF-0B93-4CBD-A085-3778E723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9F4-1A20-4AC2-87BA-11F3ADA2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F704-1654-4BB0-82EA-308B0AD4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2FA8E-BC16-448C-A0EB-ADBECBF309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