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C2DAE-602C-41E4-829C-01F480F865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433DB-3C0C-49F5-86C8-701DC2518D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648BC-FF48-43BA-BDBC-D0A6B24A49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0AD3A-6653-47CE-B81D-DD69AC2F05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2A8631-59B7-4FA5-8263-522EF369E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766EEA-6B0A-4A9E-8C79-98D391ACE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354482-0978-4B7F-A959-D197FDD15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C146D0-4EDB-47F0-9913-9AB9BA0DA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B5A57E-BED2-4F94-8FF5-D428B9C4F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1A0EB4-DC99-491C-B920-2C25058D2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B90EC8-A104-4E88-984E-0D9E043D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8EEDF-168F-4528-B29B-91D1D0933E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E9F252-0FBC-4967-9B9E-E2C8CA99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F9FB0C-8D3C-47B8-A118-C521879D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775F60-74DE-409C-B367-E8435F3A7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A6BF00-E8DE-4349-87F0-50BE317E8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FC7088-6D13-4EC0-BAC7-1E4DA2FFB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19DB8-09FA-4A5F-AAB2-12F75B0535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6423E-5DDB-4988-887D-63FCE66204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86150-8796-41DB-B650-53D44BBFD9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BC9A8-92FF-481B-86BB-5283BFFE1A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18E31-A4DC-4067-BC2D-1FB2871B62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64924-B686-4F9C-BD14-97B06C401E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A4C79-5434-412C-9581-BA05CC0CC7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33D75-1729-443F-9D55-4BC26A361A21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F79C0-45C8-400E-8230-AFB7609B4770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27780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12A62-D424-4DAA-9C27-09D034CE90E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2CFC8-6001-4C1B-9DFB-DD2874B7A24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866A7-428F-46F6-9654-E0657147DEC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knots(f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knots(f3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B2AFB-5057-46C0-BBD3-32772D03254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CC5A7-D2FD-4806-8A8B-E989FBECACC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0F46C-10FA-4659-B8EC-CBC237B9950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3CE0B-3558-4828-813A-1C725680490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786BC-C9FC-4B11-8FC4-FB95574296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B1B2E-C5BD-4CC0-9265-1D0FC662C3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E7AC0-D610-4744-B822-CBA94599A3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7D98D-45D2-45A7-B629-4B806E6068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B6738-EE54-43D8-B627-A0F5B8F4B61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710D6-77BA-4057-A535-130141CBB6A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583EC-D877-4BE8-92AA-CD7379F8CDF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7-08-18T20:30:08Z</dcterms:modified>
  <cp:revision>162</cp:revision>
  <dc:subject/>
  <dc:title>minSpline: An R Package For Minimal Knot Splines</dc:title>
</cp:coreProperties>
</file>