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4E8F3-80C3-4FA5-A2B2-FFB7D48709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D30BC-5C64-4B15-9A11-F708F0F187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49C6B-BFD2-45D2-81EF-F4C6CD558C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408CE-6735-4F35-942E-98C3181B80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881651-D50C-4F72-9FEC-E6F3B8825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C4F34B-FD78-475E-9998-339C0136C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1400AD-CB59-4B7A-9B2E-C3E85207D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AC86D4-F619-445E-A3D7-304EADE39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E11C4C-DAC8-44D9-8189-5DEFA80B1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86A35B-A620-4E44-A5F1-BAF633FB6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CF66A3-01B1-4986-9323-FD5EF2AC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46F4B-CC5F-48F1-8BE6-BE2953834E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0BC682-6BD5-44C2-A7B1-93BE672E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176292-353E-4D10-8DA4-0A1F29ED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92586F-9C8A-4712-9BF6-CCA4CBF68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E41754-B8BC-4BC0-8321-6390E098B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2BACF5-1C8B-46E0-AC46-F37E80BBF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1456D-0DC3-49D1-B66A-D0F0E77828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FBAE5-4989-41C1-BCE6-7147CB78FB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B68D3-BDFD-41E1-94C3-6589B953E5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3FD3B-03C0-4D88-BD1A-795913943A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5072D-EA98-4049-A8F4-66A5372ED4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EBCE3-C402-4ADB-A40D-2662CF3AD9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B3B7F-2A33-4E0B-AD90-CEAB7F28E0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32218-E82C-4401-83E6-97F3ABA5436D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F1E96-4C8A-4E2C-B687-7D561642AA98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27780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7B0A4-BB4E-4EBB-B0A2-14EAD5415B7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615D5-E575-49EB-BDBD-92613844A34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31156-83B9-416F-BDBA-FD765497F80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knots(f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knots(f3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953E4-966E-4142-BD10-A95713E8877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FDBB3-F713-46EA-9C48-2E645C57768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B8B3D-5A41-4E10-BF1F-7671C992F82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AAE29-BA1B-4F77-B407-859645C194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AF012-40EA-4CCA-B26C-C1F7A4BF55B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9F94C-1364-4353-ADF5-028FFBC8795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1E136-4EE7-424C-B0D8-FC25935652B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CD727-FF79-44C2-B70A-2A8E8CA91C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5CAD7-74DD-4C08-B614-95C507504F1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9E128-20DA-4AFF-8369-E8F79FD83EB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21F63-010F-4717-865E-09995AEEE74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7-08-18T20:30:08Z</dcterms:modified>
  <cp:revision>162</cp:revision>
  <dc:subject/>
  <dc:title>minSpline: An R Package For Minimal Knot Splines</dc:title>
</cp:coreProperties>
</file>