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A19AA-1BA7-41A5-9198-2457C03B40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1405B-6937-4F20-AD48-4360403AC6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02B04-5B68-4BD6-B8A8-35BC826D80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AEDF4-CB11-48F7-B1D8-5CF6C9B89A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7AB81B-B8C1-45C8-BBFB-1EAEC3B19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99A922-F791-4781-B34B-E1C9DDC9B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AAA17B-689C-4457-9618-1710D9460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9E770F-10A7-4137-AB81-2F4CCC453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0D277D-A0BC-492B-A998-1B1869BDF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C73955-8570-4FD1-81C4-74F99BE8A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D5904F-07E6-4DEE-BFD6-AC28FDD2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71C3E-543A-4C98-ABE8-5400B5ED0B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30C675-6DAA-424C-862F-9D6A901EB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C57824-D0F1-4A6F-BCA4-FE0FFAB56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F75F53-0BEE-45B1-A989-BA7659E05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49E5AD-6A84-4166-8A45-B91EEE170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9ADEE6-FB91-48F5-BFB8-B147408DF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A46FF-8C99-4A90-AD75-9857407E5B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A4BCD-D9DC-422B-A053-2A76F407EE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4D632-BFAE-47B3-96A5-9CC6554484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9A7F9-DFB8-4183-B034-8D5B760BBF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73494-D479-4A98-BA5B-ABA57E7B8A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0584F-E9D6-4D37-9876-537F20F756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4EF2E-A67C-4416-8D1B-731918B973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92642-9F7F-436A-9BA7-D94726AE62DA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0C7C3-1263-4150-9747-ECBF3DF15581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BAC8C-B6DE-444B-96F5-76892128F72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364B9-5DBF-4DF2-BD1F-C5F26B5ABBD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82689-E0C8-4199-91B7-B783990D728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4029E-8ACD-4626-BCE5-C87A7A08F30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B54AB-3B11-47DC-BAD9-65C52C16EC9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343FE-7C9A-454E-89A1-AE1A407CD2C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A6775-DDA9-495D-946E-A0566DC6A92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C5B03-65CA-47A4-812C-E1406F6BEA2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DD663-FFF8-481B-AAA5-CCD829B5236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C0C0B-B83D-41BF-9004-1D91FDE8316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65885-AEF5-4D54-9D26-DE667562272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C5CD9-56DC-4E62-9E0E-8D553DC4E24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03364-F282-4EB7-9361-B5419E6C635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1AA3B-5B11-4E40-84FE-BBFDE5E66AF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05T23:33:15Z</dcterms:modified>
  <cp:revision>164</cp:revision>
  <dc:subject/>
  <dc:title>minSpline: An R Package For Minimal Knot Splines</dc:title>
</cp:coreProperties>
</file>